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902A-6872-4B79-8D96-1EE202E1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7EAB-157B-4C0F-94A1-875F288F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2297-0B0E-4708-8B1B-2C0D04EC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B906-EFCF-4DF8-AC88-4E227025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6F25-A256-4581-BF33-55BBB5A9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3AC1-6798-44B8-8EC5-54459133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90CC-599D-4FCD-A373-888F736C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7CA9-0F48-4E31-9425-08DCD4AD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388D-DF02-476A-BDBB-BB28754D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8A65-65F9-495E-A606-391EA2C6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B185-B26B-42A2-ACDE-62F96EFB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859C-34A0-424F-99C5-E080676D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401B-36F7-42A4-B732-8CDD9F00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4FD4-16F2-47DD-A16B-894B51C0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D51C-14E5-46C1-B5CC-87F48FEA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856E-6F2F-4D17-8989-85BB2F5A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A994-C76A-4A1E-864A-7C9FB4FF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E34C8-9B32-449C-BFA5-DA245495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DEBD7-C912-4AFA-8130-A4A74F10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CF95F-98AF-436A-87D6-00FFD091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2EAAD-E114-4482-B305-A93E0E4C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07908-5418-4D72-9F14-6DA4A1CB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BEC4-2FCB-4F6E-B560-201DF63D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E9C65-6C78-4BAA-8FBE-CCF16968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6F02C-3554-4A96-B609-3BB5F39B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88711-BFC6-43AA-968F-CE2976FB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711A6-6452-43FA-B190-A18B2D05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7E073-2F47-41D3-A9CE-3FD7FE20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BF786-AA01-4DF0-BE08-0A3792BC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6F4E6-806B-4E98-AB40-54EA39C5D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92DA-96AC-49F7-AE47-1E963475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9653-8960-4E64-9774-AD57D4AA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9149-B570-4B02-A082-CCE42B5B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3193-C6E9-465F-AC23-11D01DB3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CAB-EDB3-4A2C-BAE1-D2CFE7AA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BCB4-26CF-460F-95AC-124E2D20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0E14-F66B-47A2-9278-F67E046ADE7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B90F-BEAA-4586-BC2A-C5F3555831D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85CD-89DA-4B2A-A153-29A293633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59BE-5AB1-4F14-8EBF-F0ACDF622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1342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二章 水、电解质代谢紊乱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58560" y="4797000"/>
            <a:ext cx="7010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张立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317600" y="2924280"/>
            <a:ext cx="65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disturbance of water and electrolyte metabolis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水钠平衡及水钠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EF25-A4E0-4802-8B39-A74B5499AA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物质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调节体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润滑作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79A1-8F6E-4143-900E-F7DCE545337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000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～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500ml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饮水、食物含水和代谢水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5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消化道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粪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皮肤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显性汗和非显性汗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肺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呼吸蒸发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肾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BE04-6807-47C7-B10E-7B20BE4691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外液的渗透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神经、肌肉、心肌细胞的动作电位的形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新陈代谢和生理功能活动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ACAE-CA1A-41CF-92BC-F3DAEC8D19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食盐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肾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多吃多排，少吃少排，不吃不排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汗液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消化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2C6D-6B99-42BC-8176-9B10ED5BD5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152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三）水钠代谢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渴感中枢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刺激因素：血浆渗透压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抗利尿激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浆渗透压↑，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容量↓，应激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醛固酮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↓</a:t>
            </a:r>
            <a:r>
              <a:rPr b="0" lang="en-US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Na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↓ 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心钠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↑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07E3-D401-49AB-9F11-14BD484F2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水、钠代谢紊乱的分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1280" y="2852640"/>
            <a:ext cx="729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水钠代谢紊乱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692360" y="2565360"/>
            <a:ext cx="287280" cy="2087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780920" y="3860640"/>
            <a:ext cx="729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体液容量过多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854000" y="2492280"/>
            <a:ext cx="72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2627280" y="22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2700360" y="40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1989000"/>
            <a:ext cx="42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3040200" y="2570040"/>
            <a:ext cx="35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3059280" y="3141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3111480" y="3794040"/>
            <a:ext cx="44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水过多（水中毒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4437000"/>
            <a:ext cx="331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水过多（水肿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111480" y="4923000"/>
            <a:ext cx="4845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水过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8561-05E8-4BD0-8D75-358B4884D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外液容量明显减少的状态称为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88000" y="5877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F76A-0252-476E-91E2-CC9F64B34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001000" cy="31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失水大于失钠，血清钠高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 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高渗性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2F47-3ACE-411A-9B5C-B4EC79800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731052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丢失过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水过多 （尿崩症 ，渗透性利尿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水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、呼吸道丢失水过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73B8-00B7-4F0F-B126-074090E9947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380520"/>
            <a:ext cx="81183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Verdana"/>
              </a:rPr>
              <a:t>水与电解质平衡</a:t>
            </a:r>
            <a:br>
              <a:rPr sz="4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Water and electrolyte balance)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2565360"/>
            <a:ext cx="8001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Verdana"/>
              </a:rPr>
              <a:t>体液的容量、化学成分、渗透压和分布保持相对恒定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C2F3-644D-47A3-B351-AB7A46BC0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内液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，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较少发生休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中枢神经系统功能障碍（脑出血所致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的变化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比重高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钠含量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：轻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重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脱水热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18A9-67DA-4659-BD3A-9A36DA9BC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失钠大于失水，血清钠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30mmol/L,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80 mmol/L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伴有体液容量减少的病理过程称为低渗性脱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potonic dehydration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AC31-A0F2-4515-A738-D57230EDA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55728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皮肤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消化道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肾丢失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实质性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长期使用排钠利尿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不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2464-5ED6-4BDA-9DFF-880D4C973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29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，细胞内液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细胞水肿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的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量：早期正常，重症病人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钠：肾失钠引起者↑，肾外原因引起者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休克倾向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明显脱水外貌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口渴不明显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9424-0B3A-4D93-ADB0-2FBE037CA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0010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与钠等比例丢失，血钠浓度维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渗透压保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等渗性脱水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iso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71D0-C6FD-49C1-9C52-91A87856D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消化道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皮肤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腔内大量液体贮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CF2B-7019-485E-BB97-E47EABCB3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↓，细胞内液容量无明显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休克倾向及脱水外貌介于上述两类之间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四）脱水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防治原发疾病，去除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液体疗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渗性脱水补高渗溶液为主，等渗性脱水补等渗溶液为主，高渗性脱水补水为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渗性脱水注意抗休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其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容量过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水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7893000" cy="32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在体内大量潴留，并伴有血清钠浓度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病理过程称为水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water intoxic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一节 水、电解质平衡的调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肾功能不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泌异常增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急性应激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些药物的作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低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分泌不当综合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医源性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6E39-FD5E-485B-863D-794036A08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水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颅内压增高， 脑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钠血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变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重增加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01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禁水，加强排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盐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盐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salt poisoning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特点是血容量和血清钠均增高，血清钠浓度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医源性盐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原发性钠潴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0100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细胞脱水，严重者可引起中枢神经系统功能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盐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使用利尿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透析治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水肿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过多的液体在组织间隙或体腔积聚称为水肿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ema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在体腔中积聚又被命名为积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drops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6390-4D62-42CE-99B4-02D8E9510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115920" y="327672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体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1371600" y="2286000"/>
            <a:ext cx="304920" cy="2819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752480" y="1828800"/>
            <a:ext cx="18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内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716120" y="472428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外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2971800" y="419112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3336840" y="390672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3336840" y="527832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组织间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3590280" y="563868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水肿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4800600" y="50292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5105520" y="4800600"/>
            <a:ext cx="17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组织间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5181480" y="59436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体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7010280" y="601992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积水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7315200" y="38862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稀血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6918480" y="1773360"/>
            <a:ext cx="17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细胞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11EF-531D-4D19-851C-FE6C22A10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的分类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分布范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局部水肿， 全身水肿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生部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皮下水肿，脑水肿，肺水肿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病原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性水肿，肾性水肿，肝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营养不良性水肿，内分泌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特发性水肿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4BB8-ECC2-44AC-824A-A252660003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395280" y="3645000"/>
            <a:ext cx="18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液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dy flui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2411280" y="2781360"/>
            <a:ext cx="432000" cy="2519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059280" y="22050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内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ntracellular flui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995640" y="278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843280" y="4292640"/>
            <a:ext cx="1944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外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extracellular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16"/>
          <p:cNvSpPr/>
          <p:nvPr/>
        </p:nvSpPr>
        <p:spPr>
          <a:xfrm>
            <a:off x="4716360" y="4149720"/>
            <a:ext cx="393840" cy="1752480"/>
          </a:xfrm>
          <a:custGeom>
            <a:avLst/>
            <a:gdLst>
              <a:gd name="textAreaLeft" fmla="*/ 251640 w 393840"/>
              <a:gd name="textAreaRight" fmla="*/ 394200 w 39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064120" y="3854520"/>
            <a:ext cx="339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间液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interstitial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5076720" y="5229360"/>
            <a:ext cx="357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las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体液的容量和分布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5CB3-C646-4E1A-84F4-16789D32A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2"/>
          <p:cNvSpPr/>
          <p:nvPr/>
        </p:nvSpPr>
        <p:spPr>
          <a:xfrm>
            <a:off x="1547640" y="1557360"/>
            <a:ext cx="1524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3048120" y="152388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3352680" y="1905120"/>
            <a:ext cx="3733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7543800" y="14479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6"/>
          <p:cNvSpPr/>
          <p:nvPr/>
        </p:nvSpPr>
        <p:spPr>
          <a:xfrm flipH="1">
            <a:off x="7086600" y="144792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1752480" y="36576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 flipV="1">
            <a:off x="2971800" y="3200400"/>
            <a:ext cx="3049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3200400" y="3276720"/>
            <a:ext cx="3962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7924680" y="37339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7162920" y="3276720"/>
            <a:ext cx="76176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Oval 12"/>
          <p:cNvSpPr/>
          <p:nvPr/>
        </p:nvSpPr>
        <p:spPr>
          <a:xfrm rot="20070000">
            <a:off x="62485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Oval 13"/>
          <p:cNvSpPr/>
          <p:nvPr/>
        </p:nvSpPr>
        <p:spPr>
          <a:xfrm rot="20070000">
            <a:off x="5867280" y="502884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Oval 14"/>
          <p:cNvSpPr/>
          <p:nvPr/>
        </p:nvSpPr>
        <p:spPr>
          <a:xfrm rot="1492800">
            <a:off x="41911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Oval 15"/>
          <p:cNvSpPr/>
          <p:nvPr/>
        </p:nvSpPr>
        <p:spPr>
          <a:xfrm rot="1492800">
            <a:off x="4572000" y="502920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Oval 16"/>
          <p:cNvSpPr/>
          <p:nvPr/>
        </p:nvSpPr>
        <p:spPr>
          <a:xfrm rot="1492800">
            <a:off x="51055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Oval 17"/>
          <p:cNvSpPr/>
          <p:nvPr/>
        </p:nvSpPr>
        <p:spPr>
          <a:xfrm rot="20070000">
            <a:off x="53341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Oval 18"/>
          <p:cNvSpPr/>
          <p:nvPr/>
        </p:nvSpPr>
        <p:spPr>
          <a:xfrm>
            <a:off x="1143000" y="1523880"/>
            <a:ext cx="4572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19"/>
          <p:cNvSpPr/>
          <p:nvPr/>
        </p:nvSpPr>
        <p:spPr>
          <a:xfrm>
            <a:off x="1447920" y="365760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Line 20"/>
          <p:cNvSpPr/>
          <p:nvPr/>
        </p:nvSpPr>
        <p:spPr>
          <a:xfrm>
            <a:off x="1371600" y="15238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Oval 21"/>
          <p:cNvSpPr/>
          <p:nvPr/>
        </p:nvSpPr>
        <p:spPr>
          <a:xfrm>
            <a:off x="1219320" y="1828800"/>
            <a:ext cx="3045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3809880" y="838080"/>
            <a:ext cx="27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毛细血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6726240" y="439920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淋巴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1752480" y="1728720"/>
            <a:ext cx="13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7696080" y="16527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静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2743200" y="2338560"/>
            <a:ext cx="23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流体静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5334120" y="2338560"/>
            <a:ext cx="28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胶体渗透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28"/>
          <p:cNvSpPr/>
          <p:nvPr/>
        </p:nvSpPr>
        <p:spPr>
          <a:xfrm>
            <a:off x="327672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29"/>
          <p:cNvSpPr/>
          <p:nvPr/>
        </p:nvSpPr>
        <p:spPr>
          <a:xfrm>
            <a:off x="35812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30"/>
          <p:cNvSpPr/>
          <p:nvPr/>
        </p:nvSpPr>
        <p:spPr>
          <a:xfrm>
            <a:off x="3851280" y="3284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42670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32"/>
          <p:cNvSpPr/>
          <p:nvPr/>
        </p:nvSpPr>
        <p:spPr>
          <a:xfrm flipV="1">
            <a:off x="60958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33"/>
          <p:cNvSpPr/>
          <p:nvPr/>
        </p:nvSpPr>
        <p:spPr>
          <a:xfrm flipV="1">
            <a:off x="63244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34"/>
          <p:cNvSpPr/>
          <p:nvPr/>
        </p:nvSpPr>
        <p:spPr>
          <a:xfrm flipV="1">
            <a:off x="65530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35"/>
          <p:cNvSpPr/>
          <p:nvPr/>
        </p:nvSpPr>
        <p:spPr>
          <a:xfrm flipV="1">
            <a:off x="67816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3133800" y="270828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37"/>
          <p:cNvSpPr/>
          <p:nvPr/>
        </p:nvSpPr>
        <p:spPr>
          <a:xfrm>
            <a:off x="5851440" y="2708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38"/>
          <p:cNvSpPr/>
          <p:nvPr/>
        </p:nvSpPr>
        <p:spPr>
          <a:xfrm>
            <a:off x="4419720" y="3581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(2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AutoShape 39"/>
          <p:cNvSpPr/>
          <p:nvPr/>
        </p:nvSpPr>
        <p:spPr>
          <a:xfrm>
            <a:off x="4495680" y="3962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40"/>
          <p:cNvSpPr/>
          <p:nvPr/>
        </p:nvSpPr>
        <p:spPr>
          <a:xfrm>
            <a:off x="5638680" y="4038480"/>
            <a:ext cx="381240" cy="990720"/>
          </a:xfrm>
          <a:custGeom>
            <a:avLst/>
            <a:gdLst>
              <a:gd name="textAreaLeft" fmla="*/ 51120 w 381240"/>
              <a:gd name="textAreaRight" fmla="*/ 330120 w 38124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AutoShape 41"/>
          <p:cNvSpPr/>
          <p:nvPr/>
        </p:nvSpPr>
        <p:spPr>
          <a:xfrm>
            <a:off x="5181480" y="51814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38EB-AD6A-47E4-840D-9129EF4EA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010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影响血管内外液体交换的因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74200" y="2060280"/>
            <a:ext cx="7885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流体静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血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流体静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(20)                    (-10)             (3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胶体渗透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渗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胶渗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2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内流体静压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静脉淤血、阻塞、受压；动脉充血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体渗透压下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蛋白质合成↓ ，丧失↑</a:t>
            </a:r>
            <a:r>
              <a:rPr b="0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分解↑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微血管壁通透性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炎症 ，过敏 ，其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障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淋巴管阻塞、 摘除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图片 7" descr="橡皮腿.jpg"/>
          <p:cNvPicPr/>
          <p:nvPr/>
        </p:nvPicPr>
        <p:blipFill>
          <a:blip r:embed="rId2"/>
          <a:stretch/>
        </p:blipFill>
        <p:spPr>
          <a:xfrm>
            <a:off x="6156360" y="2133720"/>
            <a:ext cx="267984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钠水潴留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BDBA-9513-4807-813A-3B6A99B8B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肾对钠水的排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肾小球滤过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有效滤过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肾小球毛细血管血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血浆胶渗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囊内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小球滤过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透性  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血流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近曲小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曲小管、集合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平衡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球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管失衡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84720" y="2708280"/>
            <a:ext cx="27021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球滤过率下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球病变致肾小球滤过面积明显↓；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有效循环血量明显↓致肾血流量↓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管重吸收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滤过分数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F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增加 ，钠水平衡调节激素改变（醛固酮↑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DH 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↑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，心钠素↓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血流重分布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3215-97AA-4E27-AC12-F998CFE45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471600" y="2133720"/>
            <a:ext cx="5461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感神经兴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AutoShape 3"/>
          <p:cNvSpPr/>
          <p:nvPr/>
        </p:nvSpPr>
        <p:spPr>
          <a:xfrm>
            <a:off x="990720" y="22860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355760" y="20988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入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32004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870360" y="209232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1258920" y="3276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8"/>
          <p:cNvSpPr/>
          <p:nvPr/>
        </p:nvSpPr>
        <p:spPr>
          <a:xfrm>
            <a:off x="32767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3946680" y="3159000"/>
            <a:ext cx="18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5867280" y="2286000"/>
            <a:ext cx="457200" cy="1371600"/>
          </a:xfrm>
          <a:custGeom>
            <a:avLst/>
            <a:gdLst>
              <a:gd name="textAreaLeft" fmla="*/ 0 w 457200"/>
              <a:gd name="textAreaRight" fmla="*/ 16488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6553080" y="2514600"/>
            <a:ext cx="23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FR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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75438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7162920" y="38098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14"/>
          <p:cNvSpPr/>
          <p:nvPr/>
        </p:nvSpPr>
        <p:spPr>
          <a:xfrm>
            <a:off x="754380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4800600" y="4648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管周围血浆胶体渗透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流体静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16"/>
          <p:cNvSpPr/>
          <p:nvPr/>
        </p:nvSpPr>
        <p:spPr>
          <a:xfrm>
            <a:off x="7543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6019920" y="594360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钠水重吸收增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18"/>
          <p:cNvSpPr/>
          <p:nvPr/>
        </p:nvSpPr>
        <p:spPr>
          <a:xfrm>
            <a:off x="1619280" y="476280"/>
            <a:ext cx="53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升高的机制及作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4937-2737-48CE-95DB-6830DF037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肿发生机制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289080" y="360216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1219320" y="2819520"/>
            <a:ext cx="473040" cy="2554200"/>
          </a:xfrm>
          <a:custGeom>
            <a:avLst/>
            <a:gdLst>
              <a:gd name="textAreaLeft" fmla="*/ 302400 w 473040"/>
              <a:gd name="textAreaRight" fmla="*/ 473400 w 473040"/>
              <a:gd name="textAreaTop" fmla="*/ 66600 h 2554200"/>
              <a:gd name="textAreaBottom" fmla="*/ 2487600 h 255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1676520" y="220968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组织液生成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大于回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619280" y="52293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钠水潴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3352680" y="190512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3809880" y="1676520"/>
            <a:ext cx="42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流体静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4677120" y="2133720"/>
            <a:ext cx="28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血浆胶体渗透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血浆蛋白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3780000" y="2590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通透性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2987640" y="4221000"/>
            <a:ext cx="504720" cy="2376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598200" y="38448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FR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AutoShape 13"/>
          <p:cNvSpPr/>
          <p:nvPr/>
        </p:nvSpPr>
        <p:spPr>
          <a:xfrm>
            <a:off x="4572000" y="35812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4861080" y="346392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滤过面积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4861080" y="39974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血流量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358128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334800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小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重吸收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AutoShape 18"/>
          <p:cNvSpPr/>
          <p:nvPr/>
        </p:nvSpPr>
        <p:spPr>
          <a:xfrm>
            <a:off x="4572000" y="5084640"/>
            <a:ext cx="360360" cy="7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5034600" y="472428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AutoShape 22"/>
          <p:cNvSpPr/>
          <p:nvPr/>
        </p:nvSpPr>
        <p:spPr>
          <a:xfrm>
            <a:off x="5867280" y="5084640"/>
            <a:ext cx="358920" cy="1125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25720"/>
              <a:gd name="textAreaBottom" fmla="*/ 1096560 h 11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6227640" y="4869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醛固酮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6372360" y="5373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3946680" y="2992320"/>
            <a:ext cx="32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淋巴回流受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26"/>
          <p:cNvSpPr/>
          <p:nvPr/>
        </p:nvSpPr>
        <p:spPr>
          <a:xfrm>
            <a:off x="6372360" y="587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钠素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5068440" y="5300640"/>
            <a:ext cx="60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化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>
            <a:off x="3854880" y="624204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血流重分布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常见水肿的特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肿液的性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漏出液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transudate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渗出液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udat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皮下水肿的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全身性水肿的分布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力效应 ，组织结构特点 ，局部血流动力学特点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06D6-DDA5-4743-B5EE-A5D5673D97F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14400" y="2286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ody fluid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886200" y="2057400"/>
            <a:ext cx="469800" cy="1515960"/>
          </a:xfrm>
          <a:custGeom>
            <a:avLst/>
            <a:gdLst>
              <a:gd name="textAreaLeft" fmla="*/ 300240 w 469800"/>
              <a:gd name="textAreaRight" fmla="*/ 470160 w 469800"/>
              <a:gd name="textAreaTop" fmla="*/ 39240 h 1515960"/>
              <a:gd name="textAreaBottom" fmla="*/ 1476720 h 151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500720" y="1773360"/>
            <a:ext cx="121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356000" y="3284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5435640" y="2852640"/>
            <a:ext cx="431640" cy="1225800"/>
          </a:xfrm>
          <a:custGeom>
            <a:avLst/>
            <a:gdLst>
              <a:gd name="textAreaLeft" fmla="*/ 275760 w 431640"/>
              <a:gd name="textAreaRight" fmla="*/ 432000 w 4316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012000" y="27082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5940360" y="3645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体液的化学成分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利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稀释毒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运送抗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不利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细胞营养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组织器官功能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对症处理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止并发症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-2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要水钠代谢紊乱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71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50920" y="1413000"/>
          <a:ext cx="8353440" cy="4884480"/>
        </p:xfrm>
        <a:graphic>
          <a:graphicData uri="http://schemas.openxmlformats.org/drawingml/2006/table">
            <a:tbl>
              <a:tblPr/>
              <a:tblGrid>
                <a:gridCol w="1384200"/>
                <a:gridCol w="1384200"/>
                <a:gridCol w="1463760"/>
                <a:gridCol w="1241280"/>
                <a:gridCol w="1495440"/>
                <a:gridCol w="1384560"/>
              </a:tblGrid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低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高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等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中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原因机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丢失只补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失水过多饮水不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大量等渗液丢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ADH↑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或肾功能降↓者摄水过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管或体内外液体交换失衡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外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内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清钠浓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浆渗透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临床特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休克，重症脱水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口渴，脱水热，中枢神经系统功能紊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介于高渗和低渗性脱水之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脑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主要治疗原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高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水为主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兼顾补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等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轻症停止补水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重症脱水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限制钠水的摄入，适当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861480" y="6380640"/>
            <a:ext cx="258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低于正常值   ↑于正常值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常  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钾平衡及钾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新陈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保持细胞静息膜电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调节细胞内外的渗透压和酸碱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食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去路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肾排泄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90%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多吃多排，少吃少排，不吃也排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血钾平衡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的跨细胞转移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激素的作用 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胰岛素 ），酸碱平衡状态，渗透压，物质代谢状况 ，运动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对钾排泄的调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影响远曲小管、集合小管排钾的调节因素 （细胞外液的钾浓度 ，醛固酮 ，远曲小管和集合管中尿液的流速和流 ，肾小管细胞管腔面跨膜电位，酸碱平衡状态 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结肠的排钾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二、钾代谢障碍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低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lt;3.5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称为低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o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排出过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的使用髓袢或噻嗪类利尿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小管性酸中毒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盐皮质激素过多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透性利尿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镁缺失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丢失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的渗透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rystalloid osmotic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钾、钠等离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olloid  osmotic 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蛋白质等大分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的渗透压与微粒数目有关，而与颗粒大小、电荷或质量无关。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向细胞内转移增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碱中毒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胰岛素使用过多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素能受体活动增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某些毒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钾血症型周期性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中枢神经系统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静息电位负值增大使兴奋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影响糖代谢，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TP 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ATP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酶活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骨骼肌的影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表现：骨骼肌和胃肠道平滑肌肌无力、肌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机制：超级化阻滞引起肌细胞兴奋性降低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6" descr="锋电位"/>
          <p:cNvPicPr/>
          <p:nvPr/>
        </p:nvPicPr>
        <p:blipFill>
          <a:blip r:embed="rId2"/>
          <a:stretch/>
        </p:blipFill>
        <p:spPr>
          <a:xfrm>
            <a:off x="5940360" y="1268280"/>
            <a:ext cx="238140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血管系统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先增强后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6084720" y="2349360"/>
            <a:ext cx="2556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肾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远曲小管上皮细胞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反应性降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髓质渗透压梯度的形成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小管上皮细胞肿胀、空泡变性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181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缺钾和低钾血症引起代谢性碱中毒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远曲小管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减少，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增加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细胞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向细胞外释出，细胞外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转移入细胞内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肾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和重吸收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增多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反常性酸性尿”（</a:t>
            </a: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paradoxial acidic urine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）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消除病因，积极治疗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补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  “</a:t>
            </a: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最好口服，缓慢滴注，见尿给钾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gt;5.5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称为高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输入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排钾减少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移出细胞外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酸中毒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缺氧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血糖合并胰岛素不足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溶血和组织坏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钾血症型周期性麻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肌肉组织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急性高钾血症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轻症 ：肌肉疼痛、肌震颤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症 ：去极化阻滞造成的肌无力、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6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慢性高钾血症 ：很少症状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C76C-3FB4-4E75-9E8D-8F19C51E30F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477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分布特点：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细胞内液与细胞外液在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电解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差异很大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内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 +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  <a:ea typeface="Arial"/>
              </a:rPr>
              <a:t>为主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外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Na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为主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组织间液和血液之间电解质成分相同，蛋白等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大分子物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有差异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11280" y="812880"/>
            <a:ext cx="806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脏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先增高后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85444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高钾血症常伴有代谢性酸中毒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细胞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内移，而细胞内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移向细胞外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管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增强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减弱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反常性碱性尿”（</a:t>
            </a:r>
            <a:r>
              <a:rPr b="0" lang="en-US" sz="3000" spc="-1" strike="noStrike">
                <a:solidFill>
                  <a:srgbClr val="3333ff"/>
                </a:solidFill>
                <a:latin typeface="Verdana"/>
              </a:rPr>
              <a:t>paradoxial alkaline urine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消除病因，积极治疗原发病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进入细胞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提高细胞外的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及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浓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胰岛素促进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进入细胞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钙盐拮抗钾的心肌毒性作用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限制钾的摄入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的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阳离子交换树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促进钾从泌尿道排出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透析疗法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病例分析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患儿，男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岁。全身水肿一周，发病前曾反复上呼吸道感染，咽痛，咳嗽，发热最高达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8.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℃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水肿开始出现于面部，后波及全身。尿少。患儿既往体健，无肝疾病、高血压、慢性胃肠道疾病史。体检可见面部及全身凹陷性水肿，血压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30/100mmHg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余未见异常结果。血浆蛋白质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6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在正常范围内）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红细胞压积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5ml%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低于正常值）。水肿液蛋白含量为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.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正常值范围内）。尿液检查可见管型及大量红细胞，尿蛋白（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++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该患儿出现何种类型的水肿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试分析该患儿水肿产生的机制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如果患儿水肿进一步发展可能对机体产生哪些不利影响？为什么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C3F1-5473-4AE8-969D-C91B8CE9CB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差异的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机制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细胞膜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以弥散方式通过，故细胞内外液电解质差异很大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Verdana"/>
              </a:rPr>
              <a:t>毛细血管壁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自由通过，大分子物质不能自由通过故血液与组织间隙间电解质成分相同，大分子物质有差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5" descr="体液分布"/>
          <p:cNvPicPr/>
          <p:nvPr/>
        </p:nvPicPr>
        <p:blipFill>
          <a:blip r:embed="rId2"/>
          <a:stretch/>
        </p:blipFill>
        <p:spPr>
          <a:xfrm>
            <a:off x="6300720" y="4797360"/>
            <a:ext cx="25923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824C-E58A-4447-9AB8-A981297EC3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406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水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细胞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细胞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血管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血管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71640" y="7668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755640" y="3645000"/>
            <a:ext cx="6500880" cy="8254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血浆渗透压为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80-310 mmol/L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在这个范围之内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等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低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低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高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高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5" descr="体液分布"/>
          <p:cNvPicPr/>
          <p:nvPr/>
        </p:nvPicPr>
        <p:blipFill>
          <a:blip r:embed="rId2"/>
          <a:stretch/>
        </p:blipFill>
        <p:spPr>
          <a:xfrm>
            <a:off x="6564240" y="5013360"/>
            <a:ext cx="25797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8T06:48:13Z</dcterms:created>
  <dc:creator>glfeng</dc:creator>
  <dc:description/>
  <dc:language>en-US</dc:language>
  <cp:lastModifiedBy>hzg</cp:lastModifiedBy>
  <dcterms:modified xsi:type="dcterms:W3CDTF">2014-04-22T02:10:38Z</dcterms:modified>
  <cp:revision>613</cp:revision>
  <dc:subject/>
  <dc:title>第三章   水、电解质代谢障碍 (Disturbance of water and electrolyte  metabolism)</dc:title>
</cp:coreProperties>
</file>